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374-B13E-4005-8991-E0AC2178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C9E-E190-4600-BF5A-BDBAED8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00D-B8E9-433C-B56B-1C0668DD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3C0-43D4-42D8-A9CE-12DAB5CD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97E-A1A3-4EFB-AA09-34ACE15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886-A183-440C-AE29-29FA449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F50-F6AB-44BB-A606-0D7430D0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845-FF00-4B61-A42D-4AADDDC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9F6-DC5C-4FD8-9522-8D1FCD6F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96A-A499-49B3-8FD1-20382206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53A-1E0B-430B-BE6A-F553664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C74-6738-4986-AA02-64E327B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D6520-5941-423B-80CB-100AD6C4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90727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ŠIAULI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MIESTO SAVIVALDYB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S</a:t>
            </a:r>
            <a:br>
              <a:rPr sz="4000"/>
            </a:b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M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225320"/>
            <a:ext cx="90723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2006 MET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TARYBOS 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VEIKL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ATASKAI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herbas-pilnas" descr=""/>
          <p:cNvPicPr/>
          <p:nvPr/>
        </p:nvPicPr>
        <p:blipFill>
          <a:blip r:embed="rId1"/>
          <a:stretch/>
        </p:blipFill>
        <p:spPr>
          <a:xfrm>
            <a:off x="8077320" y="380880"/>
            <a:ext cx="1563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907236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2006 m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ta Tarybos posėdžių – 13 ir 1 iškilming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Tarybos sprendimų projektų – 52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iimta Tarybos sprendimų – 48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epriimta sprendimų – 17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atsiėmė projektų rengėjai –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šbraukta iš darbotvarkės – 8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posėdžiuose priimta 16 protokolinių įpareigojimų Savivaldybės administracij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HPIM4161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500720" cy="59738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90727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. rugsėjo 7 d. Šiaulių miesto savivaldybės tarybos sprendimu miesto Garbės piliečio vardas suteiktas Alfonsui Armalui, Kaziui Knizikevičiui ir Pranui Piaulok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etais priimtos 4 piliečių priesaikos Lietuvos Respublika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8390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Daugiausia dėmesio 2006 metais skirta klausi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1.Dėl miesto Bendrojo plano koncepci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2.Dėl Šiaulių miesto 2007-2016 metų strateginio pl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3.Dėl rinkliavos mokesčių už komunalinių atliekų surinkimą ir tvarkymą dydžių nustaty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4.Dėl savivaldybių optimalaus skaičiaus nustatymo ir jų teritorijų keit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8390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ero potvarkiais įforminta 220 sprendimų, iš j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ėl komandiruočių – 1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adrų klausimais – 1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t. klausimais – 1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ikštos 272 savivaldybės mero padėk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gyventojų priimamajame meras Vytautas Juškus priėmė 68 interesan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83908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kolegij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ytautas Jušku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3 posėdžiai, juose svarstyti 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Finansų ir biudže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aclovas Vingr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20 posėdžių, juose apsvarstyti 253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iesto ūkio ir plėtros komite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Edvardas Peleck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ė 22 posėdžius ir svarstė 332 klausimus</a:t>
            </a:r>
            <a:r>
              <a:rPr b="1" i="1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veikatos ir socialinių reikalų komit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Ferdinandas Bals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buvo svarstyti 232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vietimo, kultūros ir spor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Mindaugas Stakvilevič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apsvarstyti 17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83944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ontrolės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Rimantas Lazdyn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7 posėdžiai, kuriuose nagrinėta 14 klausim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10 rekomendacijų Savivaldybės tary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r Administrac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Etikos komi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ė Nijolė Budryt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osėdžiavo 4 kartus, buvo svarstomi 4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taryboje 2006 m. buvo 5 frakci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etuvos socialdemokratų (vadovas R.Lazdynas) – 11 Tarybos nari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ir centro (vadovai L.Dinius,V.Vingras) –  9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demokratų ( vadovas V.Japertas) –           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cionaldarbininkų (vadovas M.Murza) –               4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ešiniųjų frakcija (nuo vasario mėn., vadovė B.M.Paplauskienė) –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je buvo 1 Socialliberalų (NS) partijos nar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47640" y="3060720"/>
            <a:ext cx="9072720" cy="7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č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ū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u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ž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d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mes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į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iauliai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454880" cy="561960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907272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iaulių miesto savivaldybėje parengti ir įgyvendinami 36 investiciniai projektai, kurių vertė 122,8 mln. Lt. (9 projektai remiami iš ES struktūrinių fondų, 20 - valstybės lėšomis,               7 - Europos programų lėšom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 Aukštabalio multifunkcinio komplekso statyba. Projekto vertė 63,5 mln. Lt, iš kurių 41,6 mln. Lt - ES finansinė parama, 11,2 mln. Lt -valstybės, 10,7 mln. Lt - Savivaldybės lėš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dytas Talkšos ežero pietinės dalies valymo        I - asis etapas ( projekto vertė 490,2 tūkst. L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07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P133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88480" cy="60656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90723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gyvendinamas Industrinio parko įkūrimo projekto I-asis etapas: projekto vertė 28,8 mln. Lt (ES lėšos – 11,3 mln. Lt, Valstybės – 3,8 mln. Lt, Savivaldybės – 13,8 mln. 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s įgyvendinti miesto vandentiekio tinklų vystymo ir renovacijos projektas, kurio I-ojo etapo vertė – apie 9 mln. eur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Gatvių rekonstrukcijai ir asfaltavimui skirta apie 14 mln. Lt, daugiabučių kiemų remontui - apie 1,5 mln.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90727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Pastatytas prekybos ir pramogų kompleksas „Saulės miestas“, jame integruota nauja Autobusų sto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 pėsčiųjų bulvaro Vilniaus g. dal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s Prisikėlimo aikštės skveras, jame pastatytas fontanas „Saulės diskai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GP117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554960" cy="566568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072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Vis daugiau miesto mokyklų moksleivių mokosi renovuotose, šiltesnėse ir jaukesnėse mokyklose, keičiami langai, stogo dangos vaikų lopšeliuose –darželiuose, tvarkomos sporto bazės, atnaujinamas futbolo stadionas, renovuojamos kultūros įsta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nicijuotas Šiaulių miesto tarybos sprendimas uždrausti Rugsėjo 1-ąją mieste prekiauti alkoholiniais gėrimais. Tarybos iniciatyvą parėmė  LR Seimas, priėmęs Įstatymo pataisą, uždraudusią Rugsėjo 1-ąją prekiauti alkoholiu visoje šaly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907236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montuotas Dienos užimtumo centras „Goda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kvynės namuose sudėti nauji langai, apšiltintas ir nauja danga padengtas sto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ngtas Savarankiško gyvenimo (senelių) namų steigimo projektas, ieškoma lėšų jo įgyvendinim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vile</cp:lastModifiedBy>
  <dcterms:modified xsi:type="dcterms:W3CDTF">2007-03-16T08:03:07Z</dcterms:modified>
  <cp:revision>127</cp:revision>
  <dc:subject/>
  <dc:title>ŠIAULIŲ MIESTO SAVIVALDYBĖS KONTROLIERIAUS TARNYBA</dc:title>
</cp:coreProperties>
</file>