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0080625" cy="7559675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3116-9275-4B93-BBE9-AC87852F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8551-CE8D-4B9C-9705-B3BB7A0B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B468-BE19-40C8-B303-E65DDBFB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4311-DD1B-4C58-B5D7-DFC767CC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F808-F0B4-4280-BAB2-DBB68B12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3AB5-FBEA-4FAA-8BD7-044ED93E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4F34-61A9-4E9A-822A-9367A25E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38F2-9269-44E5-AE99-ED2E162E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7BBA-7604-4C34-9B33-6AC65E1C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6AF8-4716-48D2-B5C2-EBF3EFA2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FCEC-6C5E-4EBB-8178-2EA805AC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BD62-647E-463C-B900-32F59290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4E8E0-4B64-4B05-8E1D-BE6ADEC30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907272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ŠIAULI</a:t>
            </a:r>
            <a:r>
              <a:rPr b="1" lang="lt-LT" sz="4000" spc="-1" strike="noStrike">
                <a:solidFill>
                  <a:srgbClr val="003300"/>
                </a:solidFill>
                <a:latin typeface="Times New Roman"/>
              </a:rPr>
              <a:t>Ų</a:t>
            </a: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 MIESTO SAVIVALDYB</a:t>
            </a:r>
            <a:r>
              <a:rPr b="1" lang="lt-LT" sz="4000" spc="-1" strike="noStrike">
                <a:solidFill>
                  <a:srgbClr val="003300"/>
                </a:solidFill>
                <a:latin typeface="Times New Roman"/>
              </a:rPr>
              <a:t>Ė</a:t>
            </a: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S</a:t>
            </a:r>
            <a:br>
              <a:rPr sz="4000"/>
            </a:br>
            <a:r>
              <a:rPr b="1" lang="lt-LT" sz="4000" spc="-1" strike="noStrike">
                <a:solidFill>
                  <a:srgbClr val="003300"/>
                </a:solidFill>
                <a:latin typeface="Times New Roman"/>
              </a:rPr>
              <a:t>ME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4225320"/>
            <a:ext cx="9072360" cy="20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3300"/>
                </a:solidFill>
                <a:latin typeface="Times New Roman"/>
              </a:rPr>
              <a:t>2006 MET</a:t>
            </a:r>
            <a:r>
              <a:rPr b="1" lang="lt-LT" sz="4800" spc="-1" strike="noStrike">
                <a:solidFill>
                  <a:srgbClr val="003300"/>
                </a:solidFill>
                <a:latin typeface="Times New Roman"/>
              </a:rPr>
              <a:t>Ų</a:t>
            </a:r>
            <a:r>
              <a:rPr b="1" lang="en-GB" sz="4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lt-LT" sz="4800" spc="-1" strike="noStrike">
                <a:solidFill>
                  <a:srgbClr val="003300"/>
                </a:solidFill>
                <a:latin typeface="Times New Roman"/>
              </a:rPr>
              <a:t>TARYBOS </a:t>
            </a:r>
            <a:r>
              <a:rPr b="1" lang="en-GB" sz="4800" spc="-1" strike="noStrike">
                <a:solidFill>
                  <a:srgbClr val="003300"/>
                </a:solidFill>
                <a:latin typeface="Times New Roman"/>
              </a:rPr>
              <a:t>VEIKLO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3300"/>
                </a:solidFill>
                <a:latin typeface="Times New Roman"/>
              </a:rPr>
              <a:t>ATASKAI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herbas-pilnas" descr=""/>
          <p:cNvPicPr/>
          <p:nvPr/>
        </p:nvPicPr>
        <p:blipFill>
          <a:blip r:embed="rId1"/>
          <a:stretch/>
        </p:blipFill>
        <p:spPr>
          <a:xfrm>
            <a:off x="8077320" y="380880"/>
            <a:ext cx="15634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9072360" cy="50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6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 u="sng">
                <a:solidFill>
                  <a:srgbClr val="003300"/>
                </a:solidFill>
                <a:uFillTx/>
                <a:latin typeface="Times New Roman"/>
              </a:rPr>
              <a:t>2006 m.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surengta Tarybos posėdžių – 13 ir 1 iškilming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pateikta Tarybos sprendimų projektų – 52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priimta Tarybos sprendimų – 486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nepriimta sprendimų – 17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atsiėmė projektų rengėjai – 1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išbraukta iš darbotvarkės – 8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Tarybos posėdžiuose priimta 16 protokolinių įpareigojimų Savivaldybės administracija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HPIM4161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4500720" cy="5973840"/>
          </a:xfrm>
          <a:prstGeom prst="rect">
            <a:avLst/>
          </a:prstGeom>
          <a:ln w="25560">
            <a:solidFill>
              <a:srgbClr val="00ff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9072720" cy="51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600" spc="-1" strike="noStrike">
                <a:solidFill>
                  <a:srgbClr val="003300"/>
                </a:solidFill>
                <a:latin typeface="Times New Roman"/>
              </a:rPr>
              <a:t>2006 m. rugsėjo 7 d. Šiaulių miesto savivaldybės tarybos sprendimu miesto Garbės piliečio vardas suteiktas Alfonsui Armalui, Kaziui Knizikevičiui ir Pranui Piauloku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600" spc="-1" strike="noStrike">
                <a:solidFill>
                  <a:srgbClr val="003300"/>
                </a:solidFill>
                <a:latin typeface="Times New Roman"/>
              </a:rPr>
              <a:t>2006 metais priimtos 4 piliečių priesaikos Lietuvos Respublika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83908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 u="sng">
                <a:solidFill>
                  <a:srgbClr val="003300"/>
                </a:solidFill>
                <a:uFillTx/>
                <a:latin typeface="Times New Roman"/>
              </a:rPr>
              <a:t>Daugiausia dėmesio 2006 metais skirta klausim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1.Dėl miesto Bendrojo plano koncepcij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2.Dėl Šiaulių miesto 2007-2016 metų strateginio pl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3.Dėl rinkliavos mokesčių už komunalinių atliekų surinkimą ir tvarkymą dydžių nustatym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4.Dėl savivaldybių optimalaus skaičiaus nustatymo ir jų teritorijų keiti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83908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Mero potvarkiais įforminta 220 sprendimų, iš j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dėl komandiruočių – 119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kadrų klausimais – 1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kt. klausimais – 12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Pareikštos 272 savivaldybės mero padėk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Savivaldybės gyventojų priimamajame meras Vytautas Juškus priėmė 68 interesant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839080" cy="626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Tarybos kolegij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(pirmininkas Vytautas Jušku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įvyko 3 posėdžiai, juose svarstyti 8 klausim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Finansų ir biudžeto kom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(pirmininkas Vaclovas Vingra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įvyko 20 posėdžių, juose apsvarstyti 253 klausim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Miesto ūkio ir plėtros komitet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(pirmininkas Edvardas Peleck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surengė 22 posėdžius ir svarstė 332 klausimus</a:t>
            </a:r>
            <a:r>
              <a:rPr b="1" i="1" lang="en-GB" sz="3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839080" cy="42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Sveikatos ir socialinių reikalų komit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(pirmininkas Ferdinandas Balsy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įvyko 19 posėdžių, buvo svarstyti 232 klausim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Švietimo, kultūros ir sporto kom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(pirmininkas Mindaugas Stakvileviči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įvyko 19 posėdžių, apsvarstyti 178 klausim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839440" cy="55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Kontrolės kom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(pirmininkas Rimantas Lazdyna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įvyko 7 posėdžiai, kuriuose nagrinėta 14 klausim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Pateikta 10 rekomendacijų Savivaldybės taryb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ir Administrac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Etikos komis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(pirmininkė Nijolė Budrytė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posėdžiavo 4 kartus, buvo svarstomi 4 klausim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Savivaldybės taryboje 2006 m. buvo 5 frakcij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Lietuvos socialdemokratų (vadovas R.Lazdynas) – 11 Tarybos nari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Liberalų ir centro (vadovai L.Dinius,V.Vingras) –  9 Tarybos naria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Liberalų demokratų ( vadovas V.Japertas) –            3 Tarybos naria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Nacionaldarbininkų (vadovas M.Murza) –               4 Tarybos naria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Dešiniųjų frakcija (nuo vasario mėn., vadovė B.M.Paplauskienė) – 3 Tarybos naria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Taryboje buvo 1 Socialliberalų (NS) partijos nar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47640" y="3060720"/>
            <a:ext cx="9072720" cy="78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i="1" lang="lt-LT" sz="5400" spc="-1" strike="noStrike">
                <a:solidFill>
                  <a:srgbClr val="003300"/>
                </a:solidFill>
                <a:latin typeface="Times New Roman"/>
              </a:rPr>
              <a:t>č</a:t>
            </a:r>
            <a:r>
              <a:rPr b="1" i="1" lang="en-GB" sz="5400" spc="-1" strike="noStrike">
                <a:solidFill>
                  <a:srgbClr val="003300"/>
                </a:solidFill>
                <a:latin typeface="Times New Roman"/>
              </a:rPr>
              <a:t>i</a:t>
            </a:r>
            <a:r>
              <a:rPr b="1" i="1" lang="lt-LT" sz="5400" spc="-1" strike="noStrike">
                <a:solidFill>
                  <a:srgbClr val="003300"/>
                </a:solidFill>
                <a:latin typeface="Times New Roman"/>
              </a:rPr>
              <a:t>ū</a:t>
            </a:r>
            <a:r>
              <a:rPr b="1" i="1" lang="en-GB" sz="5400" spc="-1" strike="noStrike">
                <a:solidFill>
                  <a:srgbClr val="003300"/>
                </a:solidFill>
                <a:latin typeface="Times New Roman"/>
              </a:rPr>
              <a:t> u</a:t>
            </a:r>
            <a:r>
              <a:rPr b="1" i="1" lang="lt-LT" sz="5400" spc="-1" strike="noStrike">
                <a:solidFill>
                  <a:srgbClr val="003300"/>
                </a:solidFill>
                <a:latin typeface="Times New Roman"/>
              </a:rPr>
              <a:t>ž</a:t>
            </a:r>
            <a:r>
              <a:rPr b="1" i="1" lang="en-GB" sz="5400" spc="-1" strike="noStrike">
                <a:solidFill>
                  <a:srgbClr val="003300"/>
                </a:solidFill>
                <a:latin typeface="Times New Roman"/>
              </a:rPr>
              <a:t> d</a:t>
            </a:r>
            <a:r>
              <a:rPr b="1" i="1" lang="lt-LT" sz="5400" spc="-1" strike="noStrike">
                <a:solidFill>
                  <a:srgbClr val="003300"/>
                </a:solidFill>
                <a:latin typeface="Times New Roman"/>
              </a:rPr>
              <a:t>ė</a:t>
            </a:r>
            <a:r>
              <a:rPr b="1" i="1" lang="en-GB" sz="5400" spc="-1" strike="noStrike">
                <a:solidFill>
                  <a:srgbClr val="003300"/>
                </a:solidFill>
                <a:latin typeface="Times New Roman"/>
              </a:rPr>
              <a:t>mes</a:t>
            </a:r>
            <a:r>
              <a:rPr b="1" i="1" lang="lt-LT" sz="5400" spc="-1" strike="noStrike">
                <a:solidFill>
                  <a:srgbClr val="003300"/>
                </a:solidFill>
                <a:latin typeface="Times New Roman"/>
              </a:rPr>
              <a:t>į</a:t>
            </a:r>
            <a:r>
              <a:rPr b="1" i="1" lang="en-GB" sz="5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9072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siauliai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7454880" cy="5619600"/>
          </a:xfrm>
          <a:prstGeom prst="rect">
            <a:avLst/>
          </a:prstGeom>
          <a:ln w="25560">
            <a:solidFill>
              <a:srgbClr val="00ff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9072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9072720" cy="53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Šiaulių miesto savivaldybėje parengti ir įgyvendinami 36 investiciniai projektai, kurių vertė 122,8 mln. Lt. (9 projektai remiami iš ES struktūrinių fondų, 20 - valstybės lėšomis,               7 - Europos programų lėšom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Pradėta Aukštabalio multifunkcinio komplekso statyba. Projekto vertė 63,5 mln. Lt, iš kurių 41,6 mln. Lt - ES finansinė parama, 11,2 mln. Lt -valstybės, 10,7 mln. Lt - Savivaldybės lėš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Įvykdytas Talkšos ežero pietinės dalies valymo        I - asis etapas ( projekto vertė 490,2 tūkst. L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90727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GP1333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8088480" cy="6065640"/>
          </a:xfrm>
          <a:prstGeom prst="rect">
            <a:avLst/>
          </a:prstGeom>
          <a:ln w="25560">
            <a:solidFill>
              <a:srgbClr val="00ff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9072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907236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Įgyvendinamas Industrinio parko įkūrimo projekto I-asis etapas: projekto vertė 28,8 mln. Lt (ES lėšos – 11,3 mln. Lt, Valstybės – 3,8 mln. Lt, Savivaldybės – 13,8 mln. L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Pradėtas įgyvendinti miesto vandentiekio tinklų vystymo ir renovacijos projektas, kurio I-ojo etapo vertė – apie 9 mln. eur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Gatvių rekonstrukcijai ir asfaltavimui skirta apie 14 mln. Lt, daugiabučių kiemų remontui - apie 1,5 mln. 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9072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9072720" cy="53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600" spc="-1" strike="noStrike">
                <a:solidFill>
                  <a:srgbClr val="003300"/>
                </a:solidFill>
                <a:latin typeface="Times New Roman"/>
              </a:rPr>
              <a:t>Pastatytas prekybos ir pramogų kompleksas „Saulės miestas“, jame integruota nauja Autobusų stot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600" spc="-1" strike="noStrike">
                <a:solidFill>
                  <a:srgbClr val="003300"/>
                </a:solidFill>
                <a:latin typeface="Times New Roman"/>
              </a:rPr>
              <a:t>Rekonstruota pėsčiųjų bulvaro Vilniaus g. dal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600" spc="-1" strike="noStrike">
                <a:solidFill>
                  <a:srgbClr val="003300"/>
                </a:solidFill>
                <a:latin typeface="Times New Roman"/>
              </a:rPr>
              <a:t>Rekonstruotas Prisikėlimo aikštės skveras, jame pastatytas fontanas „Saulės diskai“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9072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GP1173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7554960" cy="5665680"/>
          </a:xfrm>
          <a:prstGeom prst="rect">
            <a:avLst/>
          </a:prstGeom>
          <a:ln w="25560">
            <a:solidFill>
              <a:srgbClr val="00ff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9072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072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Vis daugiau miesto mokyklų moksleivių mokosi renovuotose, šiltesnėse ir jaukesnėse mokyklose, keičiami langai, stogo dangos vaikų lopšeliuose –darželiuose, tvarkomos sporto bazės, atnaujinamas futbolo stadionas, renovuojamos kultūros įstaig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Inicijuotas Šiaulių miesto tarybos sprendimas uždrausti Rugsėjo 1-ąją mieste prekiauti alkoholiniais gėrimais. Tarybos iniciatyvą parėmė  LR Seimas, priėmęs Įstatymo pataisą, uždraudusią Rugsėjo 1-ąją prekiauti alkoholiu visoje šaly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9072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907236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Suremontuotas Dienos užimtumo centras „Goda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Nakvynės namuose sudėti nauji langai, apšiltintas ir nauja danga padengtas stog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Parengtas Savarankiško gyvenimo (senelių) namų steigimo projektas, ieškoma lėšų jo įgyvendinimu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vile</cp:lastModifiedBy>
  <dcterms:modified xsi:type="dcterms:W3CDTF">2007-03-16T08:03:07Z</dcterms:modified>
  <cp:revision>127</cp:revision>
  <dc:subject/>
  <dc:title>ŠIAULIŲ MIESTO SAVIVALDYBĖS KONTROLIERIAUS TARNYBA</dc:title>
</cp:coreProperties>
</file>