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1F179-E3D5-47EA-87C7-AA99C3B25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693F5-45CD-484A-BA25-4728FCDA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C5305-2CE1-44D1-A09D-846118EDC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B4169-80A2-4A41-ACCD-5AC6E7458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F8FC-E5F8-4AA0-BC8D-6547EA74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ED384-CBE9-40E9-B10A-1267A1CB4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D934C-510B-4D20-93BD-C663F46B7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3735-D99C-4116-87ED-9334A10E5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AB68-5E62-4DB8-A97F-13F8E111C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99EC2-BD98-478F-BFC3-162601F89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B54E-CBD9-4121-92D3-8527B04D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4789-4BEE-4F30-ABC0-43DA605ED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13411-C8EB-421D-A5CC-93EFA49EA5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00007f"/>
                </a:solidFill>
                <a:latin typeface="Times New Roman"/>
              </a:rPr>
              <a:t>ŠIAULI</a:t>
            </a:r>
            <a:r>
              <a:rPr b="1" lang="lt-LT" sz="4000" spc="-1" strike="noStrike">
                <a:solidFill>
                  <a:srgbClr val="00007f"/>
                </a:solidFill>
                <a:latin typeface="Times New Roman"/>
              </a:rPr>
              <a:t>Ų</a:t>
            </a:r>
            <a:r>
              <a:rPr b="1" lang="en-GB" sz="4000" spc="-1" strike="noStrike">
                <a:solidFill>
                  <a:srgbClr val="00007f"/>
                </a:solidFill>
                <a:latin typeface="Times New Roman"/>
              </a:rPr>
              <a:t> MIESTO SAVIVALDYB</a:t>
            </a:r>
            <a:r>
              <a:rPr b="1" lang="lt-LT" sz="4000" spc="-1" strike="noStrike">
                <a:solidFill>
                  <a:srgbClr val="00007f"/>
                </a:solidFill>
                <a:latin typeface="Times New Roman"/>
              </a:rPr>
              <a:t>Ė</a:t>
            </a:r>
            <a:r>
              <a:rPr b="1" lang="en-GB" sz="4000" spc="-1" strike="noStrike">
                <a:solidFill>
                  <a:srgbClr val="00007f"/>
                </a:solidFill>
                <a:latin typeface="Times New Roman"/>
              </a:rPr>
              <a:t>S</a:t>
            </a:r>
            <a:br>
              <a:rPr sz="4000"/>
            </a:br>
            <a:r>
              <a:rPr b="1" lang="en-GB" sz="4000" spc="-1" strike="noStrike">
                <a:solidFill>
                  <a:srgbClr val="00007f"/>
                </a:solidFill>
                <a:latin typeface="Times New Roman"/>
              </a:rPr>
              <a:t>KONTROLIERIAUS TARNYBA</a:t>
            </a:r>
            <a:endParaRPr b="0" lang="en-US" sz="4000" spc="-1" strike="noStrike">
              <a:solidFill>
                <a:srgbClr val="000000"/>
              </a:solidFill>
              <a:latin typeface="Arial"/>
            </a:endParaRPr>
          </a:p>
        </p:txBody>
      </p:sp>
      <p:sp>
        <p:nvSpPr>
          <p:cNvPr id="42" name=""/>
          <p:cNvSpPr/>
          <p:nvPr/>
        </p:nvSpPr>
        <p:spPr>
          <a:xfrm>
            <a:off x="533520" y="4572720"/>
            <a:ext cx="9072360" cy="13892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2006 MET</a:t>
            </a:r>
            <a:r>
              <a:rPr b="1" lang="lt-LT" sz="4800" spc="-1" strike="noStrike">
                <a:solidFill>
                  <a:srgbClr val="00007f"/>
                </a:solidFill>
                <a:latin typeface="Times New Roman"/>
              </a:rPr>
              <a:t>Ų</a:t>
            </a:r>
            <a:r>
              <a:rPr b="1" lang="en-GB" sz="4800" spc="-1" strike="noStrike">
                <a:solidFill>
                  <a:srgbClr val="00007f"/>
                </a:solidFill>
                <a:latin typeface="Times New Roman"/>
              </a:rPr>
              <a:t> V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41868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finansinių auditų metu nustatyti neatitikimai bei rekomendacijos ir jų ištaisymas</a:t>
            </a:r>
            <a:endParaRPr b="0" lang="en-US" sz="4000" spc="-1" strike="noStrike">
              <a:solidFill>
                <a:srgbClr val="000000"/>
              </a:solidFill>
              <a:latin typeface="Arial"/>
            </a:endParaRPr>
          </a:p>
        </p:txBody>
      </p:sp>
      <p:graphicFrame>
        <p:nvGraphicFramePr>
          <p:cNvPr id="61" name=""/>
          <p:cNvGraphicFramePr/>
          <p:nvPr/>
        </p:nvGraphicFramePr>
        <p:xfrm>
          <a:off x="900000" y="2519280"/>
          <a:ext cx="8401320" cy="4262400"/>
        </p:xfrm>
        <a:graphic>
          <a:graphicData uri="http://schemas.openxmlformats.org/presentationml/2006/ole">
            <p:oleObj progId="Word.Document.12" r:id="rId1" spid="">
              <p:embed/>
              <p:pic>
                <p:nvPicPr>
                  <p:cNvPr id="62" name="" descr=""/>
                  <p:cNvPicPr/>
                  <p:nvPr/>
                </p:nvPicPr>
                <p:blipFill>
                  <a:blip r:embed="rId2"/>
                  <a:stretch/>
                </p:blipFill>
                <p:spPr>
                  <a:xfrm>
                    <a:off x="900000" y="2519280"/>
                    <a:ext cx="8401320" cy="4262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1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o audito rezultatų pavyzdžiai</a:t>
            </a:r>
            <a:endParaRPr b="0" lang="en-US" sz="4000" spc="-1" strike="noStrike">
              <a:solidFill>
                <a:srgbClr val="000000"/>
              </a:solidFill>
              <a:latin typeface="Arial"/>
            </a:endParaRPr>
          </a:p>
        </p:txBody>
      </p:sp>
      <p:sp>
        <p:nvSpPr>
          <p:cNvPr id="64" name=""/>
          <p:cNvSpPr/>
          <p:nvPr/>
        </p:nvSpPr>
        <p:spPr>
          <a:xfrm>
            <a:off x="457200" y="1079640"/>
            <a:ext cx="9296280" cy="6115320"/>
          </a:xfrm>
          <a:prstGeom prst="rect">
            <a:avLst/>
          </a:prstGeom>
          <a:noFill/>
          <a:ln w="0">
            <a:noFill/>
          </a:ln>
        </p:spPr>
        <p:style>
          <a:lnRef idx="0"/>
          <a:fillRef idx="0"/>
          <a:effectRef idx="0"/>
          <a:fontRef idx="minor"/>
        </p:style>
        <p:txBody>
          <a:bodyPr lIns="0" rIns="0" tIns="0" bIns="0" anchor="t">
            <a:spAutoFit/>
          </a:bodyPr>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Audito švietimo įstaigose  metu nustatyta, kad mokyklos, kuriose organizuojamas mokinių maitinimas, 2006 metais sudarė specialiąją programą tik daliai valgyklos pajamų (antkainiui). Tuo buvo nevykdomos Lietuvos Respublikos valstybės biudžeto ir savivaldybių biudžetų sudarymo ir vykdymo taisyklių nuostatos. Mokyklos 2007 metams sudarė specialiąsias programas dėl valgyklų pajamų ir šiais metais į savivaldybės biudžetą planuojama įmokėti 2.377,0 tūkst. Lt  pajamų. </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vietimo skyriaus vykdomas pagalbos švietimo įstaigoms teikimo programos finansinio audito metu nustatyta, kad nesutvarkyti dokumentai iš Švietimo ir mokslo ministerijos gautai kompiuterinei technikai. Po audito kompiuterinė technika (valstybės turtas) perimtas valdyti patikėjimo teise.</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Privatizavimo fondo finansinio audito metu nurodyti pastebėti vidaus kontrolės trūkumai, vedant suteiktų paskolų gyventojams apskaitą. Atsižvelgiant į nurodytus trūkumus, buvo pradėta vesti debitorinio įsiskolinimo apskaita pagal kiekvieną paskolos gavėją bei privatizuojamo objekto pirkėją.</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iaulių miesto savivaldybės specialiosios bendruomenės sveikatinimo programos finansinio audito metu buvo pastebėta, kad galiojančios Šiaulių miesto savivaldybės specialiosios bendruomenės sveikatinimo programos sveikatos projektų rengimo, vertinimo, finansavimo ir kontrolės taisyklės nebeatitinka aktualių teisės aktų reikalavimų. Naujos taisyklės patvirtintos Šiaulių miesto savivaldybės tarybos 2006 m. vasario 23 d. sprendimu Nr. T-42.</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Dėl pateisinamų priežasčių neištaisyti neatitikimai</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66" name="PlaceHolder 2"/>
          <p:cNvSpPr>
            <a:spLocks noGrp="1"/>
          </p:cNvSpPr>
          <p:nvPr>
            <p:ph/>
          </p:nvPr>
        </p:nvSpPr>
        <p:spPr>
          <a:xfrm>
            <a:off x="151920" y="1600200"/>
            <a:ext cx="9525240" cy="57070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Įsakymuose dėl vienkartinių išmokų, nenurodyta pagal kokį Lietuvos Respublikos 1993 m. liepos 8 d. nutarimo Nr. 511 punktą skatinami įstaigos darbuotojai.</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pagal 2005 m. gruodžio mėn. išankstinio apmokėjimo sąskaitą apmokėjo už remonto darbus, kurie bus vykdomi sutartyje nurodytu laikotarpiu (nuo 2006 m. sausio 1 d. iki 2006 m. rugsėjo 1 d.). Įstaiga faktines išlaidas padarys 2006 metais, tačiau avansu sumokėtą sumą užregistravo kaip 2005 metų ilgalaikio materialiojo turto einamojo remonto faktines išlaidas.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vykdytos Lietuvos Respublikos švietimo ir mokslo ministro 2005 m. gruodžio 29 d. įsakymo Nr. ĮSAK-2668 “Dėl išimties atvejų, kada leidžiama dirbti daugiau negu 36 valandas per savaitę“ nuostatos. Kai kurie pedagogai dirbo daugiau 40 valandų per savaitę.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išnuomojo patikėjimo teise valdomą turtą ir pasirašė sutartį kurios galiojimo terminas - 2008 metai be steigėjo sutikimo.</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Dėl vykstančių derinimų su kuruojančiu bei kitais skyriais nėra galutinai suderinti ir patvirtinti įstaigos teikiamų paslaugų įkainiai.</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99600"/>
            <a:ext cx="9252000" cy="1738440"/>
          </a:xfrm>
          <a:prstGeom prst="rect">
            <a:avLst/>
          </a:prstGeom>
          <a:noFill/>
          <a:ln w="0">
            <a:noFill/>
          </a:ln>
        </p:spPr>
        <p:txBody>
          <a:bodyPr lIns="0" rIns="0" tIns="0" bIns="0" anchor="ctr">
            <a:noAutofit/>
          </a:bodyPr>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Šiaulių miesto savivaldybės biudžeto įvykdymo ataskaitos pateikimo tikslai</a:t>
            </a:r>
            <a:endParaRPr b="0" lang="en-US" sz="4000" spc="-1" strike="noStrike">
              <a:solidFill>
                <a:srgbClr val="000000"/>
              </a:solidFill>
              <a:latin typeface="Arial"/>
            </a:endParaRPr>
          </a:p>
        </p:txBody>
      </p:sp>
      <p:sp>
        <p:nvSpPr>
          <p:cNvPr id="68" name="PlaceHolder 2"/>
          <p:cNvSpPr>
            <a:spLocks noGrp="1"/>
          </p:cNvSpPr>
          <p:nvPr>
            <p:ph/>
          </p:nvPr>
        </p:nvSpPr>
        <p:spPr>
          <a:xfrm>
            <a:off x="533160" y="2819160"/>
            <a:ext cx="9072360" cy="414972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eikti nepriklausomą ir objektyvią informaciją apie savivaldybės biudžeto vykdymą, asignavimų naudojimo teisėtumą bei rezultatyvumą bei pateikti siūlymus nustatytiems neatitikimams ir pažeidimams ištaisyti;</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skleisti pagrindines problemas sudarant programinį biudžetą, t.y. taikant strateginio planavimo ir biudžeto sudarymo pagal programas principus, padėti gerinti paslaugų kokybę, nurodyti rizikingas veiklos ir finansų apskaitos sritis, kuriose būtina imtis didesnę kontrolę užtikrinančių priemonių.</a:t>
            </a:r>
            <a:r>
              <a:rPr b="0" lang="en-GB" sz="2800" spc="-1" strike="noStrike">
                <a:solidFill>
                  <a:srgbClr val="00007f"/>
                </a:solidFill>
                <a:latin typeface="Arial"/>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7600"/>
            <a:ext cx="9072360" cy="231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ataskaitos apie savivaldybei nuosavybės teise priklausantį turtą bei patikėjimo teise valdomą valstybės turtą pateikimo tikslai</a:t>
            </a:r>
            <a:endParaRPr b="0" lang="en-US" sz="4000" spc="-1" strike="noStrike">
              <a:solidFill>
                <a:srgbClr val="000000"/>
              </a:solidFill>
              <a:latin typeface="Arial"/>
            </a:endParaRPr>
          </a:p>
        </p:txBody>
      </p:sp>
      <p:sp>
        <p:nvSpPr>
          <p:cNvPr id="70" name="PlaceHolder 2"/>
          <p:cNvSpPr>
            <a:spLocks noGrp="1"/>
          </p:cNvSpPr>
          <p:nvPr>
            <p:ph/>
          </p:nvPr>
        </p:nvSpPr>
        <p:spPr>
          <a:xfrm>
            <a:off x="502920" y="3419280"/>
            <a:ext cx="9072360" cy="29588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virtinti, kad ataskaitoje apie savivaldybei nuosavybės teise priklausantį turtą bei patikėjimo teise valdomą valstybės turtą nėra reikšmingų finansinių duomenų iškraipymų;</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nustatyti, ar pilnai laikomasi LRV 2002 m. rugsėjo 10 d. nutarimu Nr. 1429 patvirtintos turto apskaitos tvarkos ataskaitai rengti reikalavimų.</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ų auditų išankstinis tyrimas (planavimas)</a:t>
            </a:r>
            <a:endParaRPr b="0" lang="en-US" sz="4000" spc="-1" strike="noStrike">
              <a:solidFill>
                <a:srgbClr val="000000"/>
              </a:solidFill>
              <a:latin typeface="Arial"/>
            </a:endParaRPr>
          </a:p>
        </p:txBody>
      </p:sp>
      <p:sp>
        <p:nvSpPr>
          <p:cNvPr id="72" name="PlaceHolder 2"/>
          <p:cNvSpPr>
            <a:spLocks noGrp="1"/>
          </p:cNvSpPr>
          <p:nvPr>
            <p:ph/>
          </p:nvPr>
        </p:nvSpPr>
        <p:spPr>
          <a:xfrm>
            <a:off x="456840" y="1828440"/>
            <a:ext cx="9209160" cy="495612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Iki 2006 metų pabaigos buvo atliekamas pradinis audito etapas - išankstinis tyrimas, kurio metu: </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udituojamo subjekto veikla ir jos ypatumai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pskaitos ir vidaus kontrolės sistema;</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i ir įvertinami galimi rizikos veiksniai, kiti finansinei atskaitomybei reikšmingi dalykai;</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a ar audituojame subjekte sukurtos kontrolės procedūros yra veiksmingos ir nuoseklio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daromas išsamus audito planas, kuriame atsižvelgiant į nustatytą riziką bei reikšmingumo lygius, numatomos svarbiausios audito srity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audituojamam subjektui pateikiamos pastabos, nustatytos klaidos bei neatitikimai ir suteikiama galimybė juos ištaisyti, siekiant, kad finansinė atskaitomybė atskleistų kuo tikresnį ir teisingesnį vaizdą.</a:t>
            </a:r>
            <a:endParaRPr b="0" lang="en-US" sz="2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6426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audituojamos lėšos pagal sritis</a:t>
            </a:r>
            <a:endParaRPr b="0" lang="en-US" sz="4000" spc="-1" strike="noStrike">
              <a:solidFill>
                <a:srgbClr val="000000"/>
              </a:solidFill>
              <a:latin typeface="Arial"/>
            </a:endParaRPr>
          </a:p>
        </p:txBody>
      </p:sp>
      <p:pic>
        <p:nvPicPr>
          <p:cNvPr id="74" name="" descr=""/>
          <p:cNvPicPr/>
          <p:nvPr/>
        </p:nvPicPr>
        <p:blipFill>
          <a:blip r:embed="rId1"/>
          <a:stretch/>
        </p:blipFill>
        <p:spPr>
          <a:xfrm>
            <a:off x="900000" y="1800360"/>
            <a:ext cx="8280360" cy="504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53520"/>
            <a:ext cx="952488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finansinių auditų išankstinio tyrimo metu nustatyti neatitikimai pagal sritis</a:t>
            </a:r>
            <a:endParaRPr b="0" lang="en-US" sz="4000" spc="-1" strike="noStrike">
              <a:solidFill>
                <a:srgbClr val="000000"/>
              </a:solidFill>
              <a:latin typeface="Arial"/>
            </a:endParaRPr>
          </a:p>
        </p:txBody>
      </p:sp>
      <p:pic>
        <p:nvPicPr>
          <p:cNvPr id="76" name="" descr=""/>
          <p:cNvPicPr/>
          <p:nvPr/>
        </p:nvPicPr>
        <p:blipFill>
          <a:blip r:embed="rId1"/>
          <a:stretch/>
        </p:blipFill>
        <p:spPr>
          <a:xfrm>
            <a:off x="1079640" y="1800360"/>
            <a:ext cx="7920000" cy="5219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auditai</a:t>
            </a:r>
            <a:r>
              <a:rPr b="1" i="1" lang="en-GB" sz="3800" spc="-1" strike="noStrike">
                <a:solidFill>
                  <a:srgbClr val="00007f"/>
                </a:solidFill>
                <a:latin typeface="Times New Roman"/>
              </a:rPr>
              <a:t> </a:t>
            </a:r>
            <a:endParaRPr b="0" lang="en-US" sz="3800" spc="-1" strike="noStrike">
              <a:solidFill>
                <a:srgbClr val="000000"/>
              </a:solidFill>
              <a:latin typeface="Arial"/>
            </a:endParaRPr>
          </a:p>
        </p:txBody>
      </p:sp>
      <p:sp>
        <p:nvSpPr>
          <p:cNvPr id="78" name="PlaceHolder 2"/>
          <p:cNvSpPr>
            <a:spLocks noGrp="1"/>
          </p:cNvSpPr>
          <p:nvPr>
            <p:ph/>
          </p:nvPr>
        </p:nvSpPr>
        <p:spPr>
          <a:xfrm>
            <a:off x="502920" y="1440000"/>
            <a:ext cx="9072360" cy="5757840"/>
          </a:xfrm>
          <a:prstGeom prst="rect">
            <a:avLst/>
          </a:prstGeom>
          <a:noFill/>
          <a:ln w="0">
            <a:noFill/>
          </a:ln>
        </p:spPr>
        <p:txBody>
          <a:bodyPr lIns="0" rIns="0" tIns="0" bIns="0" anchor="t">
            <a:normAutofit/>
          </a:bodyPr>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audito tikslas – įvertinti audituojamo subjekto viešąjį ir vidaus administravimą ekonomiškumo, efektyvumo ir rezultatyvumo požiūriu bei atskleisti veiklos tobulinimo galimybe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užbaigti 2 veiklos auditai: Šiaulių miesto savivaldybės Socialinės paramos skyriaus socialinės paramos programos ir Kultūros įstaigų, nevyriausybinių organizacijų, meno kolektyvų ir menininkų kūrybinio aktyvumo bei iniciatyvų skatinimo programo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Buvo nustatyta 16 neatitikimų, trūkumų bei pateiktos rekomendacijos jų įgyvendinimui; 14 neatitikimų buvo ištaisyta, likusieji – Kultūros ekspertų darbo apmokėjimo klausimas, bei Pirkimų, taikant įprastą komercinę praktiką, tvarkos pataisymai - tebederinami su savivaldybės administracijos vadovai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buvo atliekamas vienas veiklos auditas - Šiaulių miesto savivaldybei nuosavybės teise priklausančių gyvenamųjų patalpų valdymas, naudojimas bei disponavima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ribotos apimties auditų neatitikimai pagal sritis</a:t>
            </a:r>
            <a:endParaRPr b="0" lang="en-US" sz="4000" spc="-1" strike="noStrike">
              <a:solidFill>
                <a:srgbClr val="000000"/>
              </a:solidFill>
              <a:latin typeface="Arial"/>
            </a:endParaRPr>
          </a:p>
        </p:txBody>
      </p:sp>
      <p:pic>
        <p:nvPicPr>
          <p:cNvPr id="80" name="" descr=""/>
          <p:cNvPicPr/>
          <p:nvPr/>
        </p:nvPicPr>
        <p:blipFill>
          <a:blip r:embed="rId1"/>
          <a:stretch/>
        </p:blipFill>
        <p:spPr>
          <a:xfrm>
            <a:off x="900000" y="1979640"/>
            <a:ext cx="8280360" cy="521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58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etų veiklos pokyčiai</a:t>
            </a:r>
            <a:endParaRPr b="0" lang="en-US" sz="4000" spc="-1" strike="noStrike">
              <a:solidFill>
                <a:srgbClr val="000000"/>
              </a:solidFill>
              <a:latin typeface="Arial"/>
            </a:endParaRPr>
          </a:p>
        </p:txBody>
      </p:sp>
      <p:sp>
        <p:nvSpPr>
          <p:cNvPr id="45" name="PlaceHolder 2"/>
          <p:cNvSpPr>
            <a:spLocks noGrp="1"/>
          </p:cNvSpPr>
          <p:nvPr>
            <p:ph/>
          </p:nvPr>
        </p:nvSpPr>
        <p:spPr>
          <a:xfrm>
            <a:off x="533160" y="1752480"/>
            <a:ext cx="9072360" cy="490248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Valstybinio (išorės) audito savivaldybėje įtvirtinimas. Auditų atlikimas pilnai vadovaujantis Tarptautiniais audito standartais, Valstybės kontrolės parengtų metodikų reikalavimai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Bendradarbiavimo sistemos  su Valstybės kontrole, viešojo sektoriaus vidaus auditoriais ir atestuotais auditoriais įgyvendinima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Įstojimas į Europos regionų išorės audito institucijų organizaciją (EURORAI) stebėtojo teisėmi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20124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Ribotos apimties audit</a:t>
            </a:r>
            <a:r>
              <a:rPr b="1" i="1" lang="lt-LT" sz="4000" spc="-1" strike="noStrike">
                <a:solidFill>
                  <a:srgbClr val="00007f"/>
                </a:solidFill>
                <a:latin typeface="Times New Roman"/>
              </a:rPr>
              <a:t>ų</a:t>
            </a:r>
            <a:r>
              <a:rPr b="1" i="1" lang="en-GB" sz="4000" spc="-1" strike="noStrike">
                <a:solidFill>
                  <a:srgbClr val="00007f"/>
                </a:solidFill>
                <a:latin typeface="Times New Roman"/>
              </a:rPr>
              <a:t> rezultat</a:t>
            </a:r>
            <a:r>
              <a:rPr b="1" i="1" lang="lt-LT" sz="4000" spc="-1" strike="noStrike">
                <a:solidFill>
                  <a:srgbClr val="00007f"/>
                </a:solidFill>
                <a:latin typeface="Times New Roman"/>
              </a:rPr>
              <a:t>ų</a:t>
            </a:r>
            <a:r>
              <a:rPr b="1" i="1" lang="en-GB" sz="4000" spc="-1" strike="noStrike">
                <a:solidFill>
                  <a:srgbClr val="00007f"/>
                </a:solidFill>
                <a:latin typeface="Times New Roman"/>
              </a:rPr>
              <a:t> pavyzd</a:t>
            </a:r>
            <a:r>
              <a:rPr b="1" i="1" lang="lt-LT" sz="4000" spc="-1" strike="noStrike">
                <a:solidFill>
                  <a:srgbClr val="00007f"/>
                </a:solidFill>
                <a:latin typeface="Times New Roman"/>
              </a:rPr>
              <a:t>ž</a:t>
            </a:r>
            <a:r>
              <a:rPr b="1" i="1" lang="en-GB" sz="4000" spc="-1" strike="noStrike">
                <a:solidFill>
                  <a:srgbClr val="00007f"/>
                </a:solidFill>
                <a:latin typeface="Times New Roman"/>
              </a:rPr>
              <a:t>iai</a:t>
            </a:r>
            <a:endParaRPr b="0" lang="en-US" sz="4000" spc="-1" strike="noStrike">
              <a:solidFill>
                <a:srgbClr val="000000"/>
              </a:solidFill>
              <a:latin typeface="Arial"/>
            </a:endParaRPr>
          </a:p>
        </p:txBody>
      </p:sp>
      <p:sp>
        <p:nvSpPr>
          <p:cNvPr id="82" name="PlaceHolder 2"/>
          <p:cNvSpPr>
            <a:spLocks noGrp="1"/>
          </p:cNvSpPr>
          <p:nvPr>
            <p:ph/>
          </p:nvPr>
        </p:nvSpPr>
        <p:spPr>
          <a:xfrm>
            <a:off x="539640" y="1589040"/>
            <a:ext cx="9072720" cy="54770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manevrinio butų fondo gyvenamųjų patalpų panaudojimo audito metu pateiktus pastebėjimus, savivaldybės administracijos direktoriaus 2007 m. sausio 11 d. įsakymu Nr. A-59 patikslintas manevrinio butų fondo gyvenamųjų patalpų sąrašas, savivaldybės administracijos direktoriaus 2007 m. sausio 11 d. įsakymu Nr. A-60 pakeista manevrinio butų fondo gyvenamųjų patalpų ir gyvenamųjų patalpų bendrabučiuose nuomos komisijos sudėtis.</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Statybos skyriaus parengtų statybos rangos sutarčių vykdymo audito metu patektas rekomendacijas savivaldybės administracijos direktoriaus 2007 m. sausio 22 d. įsakymu Nr. AP-44 Statybos skyriaus nuostatai papildyti skyriaus parengtų ir savivaldybės sudarytų statybos (remonto darbų) rangos ir kitų sutarčių vykdymo kontrolės funkcija, patvirtinant naują skyriaus nuostatų redakcija.</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negyvenamųjų pastatų, patalpų ir statinių (pirties pastato, esančio J. Basanavičiaus g. 11) nuomos sutarties vertinimo metu pateiktas rekomendacijas Šiaulių miesto savivaldybės administracijos direktoriaus 2006 m. rugsėjo 26 d. įsakymu Nr. A-1297 patvirtintas Talonų, pirties paslaugos gauti, išdavimo tvarkos aprašas, savivaldybės Tarybos 2006 m. lapkričio 23 d. sprendimu Nr. T-423 patvirtintas Pirties paslaugų kompensavimo tvarkos aprašas.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Ribotos apimties auditų metų nustatyti ir nepašalinti trūkumai</a:t>
            </a:r>
            <a:endParaRPr b="0" lang="en-US" sz="4000" spc="-1" strike="noStrike">
              <a:solidFill>
                <a:srgbClr val="000000"/>
              </a:solidFill>
              <a:latin typeface="Arial"/>
            </a:endParaRPr>
          </a:p>
        </p:txBody>
      </p:sp>
      <p:sp>
        <p:nvSpPr>
          <p:cNvPr id="84" name="PlaceHolder 2"/>
          <p:cNvSpPr>
            <a:spLocks noGrp="1"/>
          </p:cNvSpPr>
          <p:nvPr>
            <p:ph/>
          </p:nvPr>
        </p:nvSpPr>
        <p:spPr>
          <a:xfrm>
            <a:off x="502920" y="1767960"/>
            <a:ext cx="9072360" cy="5170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Iki metų pabaigos ne visose savivaldybės kontroliuojamose akcinėse ir uždarosiose akcinėse bendrovėse įvyko valdybų posėdžiai, todėl jų lengvųjų tarnybinių automobilių ir specialios paskirties transporto įsigijimo, nuomos ir naudojimo taisyklės kol kas nepapildytos ar nepatvirtintos atsižvelgiant į Šiaulių miesto tarybos sprendimu patvirtintos tvarkos nuostata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uo metu Šiaulių miesto savivaldybės administracijos Statybos skyrius rengia ir artimiausiu metu ruošiasi patvirtinti Atliktų rangos darbų priėmimo komisijos reglamentą ir atliktų darbų priėmimo akto for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aulių miesto savivaldybės administracijoje planuojama spręsti manevrinio butų fondo tikslingumą.</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ės problemos, ribojančios institucijos veiklą</a:t>
            </a:r>
            <a:endParaRPr b="0" lang="en-US" sz="4000" spc="-1" strike="noStrike">
              <a:solidFill>
                <a:srgbClr val="000000"/>
              </a:solidFill>
              <a:latin typeface="Arial"/>
            </a:endParaRPr>
          </a:p>
        </p:txBody>
      </p:sp>
      <p:sp>
        <p:nvSpPr>
          <p:cNvPr id="86" name="PlaceHolder 2"/>
          <p:cNvSpPr>
            <a:spLocks noGrp="1"/>
          </p:cNvSpPr>
          <p:nvPr>
            <p:ph/>
          </p:nvPr>
        </p:nvSpPr>
        <p:spPr>
          <a:xfrm>
            <a:off x="502920" y="1768320"/>
            <a:ext cx="9072360" cy="52653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Teisės aktų, reglamentuojančių auditą atliekančių institucijų kompetenciją ir funkcijas tobulinimo srityje;</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iešojo sektoriaus buhalterinės apskaitos ir finansinės atskaitomybės reformos procesas apsunkina įstaigų finansinės atskaitomybės sudarymo vertinimą;</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Savivaldybėje neužbaigtas jai priklausančio turto inventorizavimas ir teisinis registravimas;</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ntis aiškios sistemos sukūrimas derinant viešojo sektoriaus auditorių veiklos planus ir pasinaudojant vieni kitų darbo rezultatais, neužtikrina auditų dubliavimo ir laiko sąnaudų jų atlikimui sumažinimo;</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pilnai teisės aktuose įtvirtintas savivaldybės kontrolės ir audito institucijos nepriklausomumo statusas pagal EUROSAI; </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 viešojo sektoriaus auditorių (specialistų) sertifikavimo sistemos sukūrim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Kit</a:t>
            </a:r>
            <a:r>
              <a:rPr b="1" i="1" lang="lt-LT" sz="4000" spc="-1" strike="noStrike">
                <a:solidFill>
                  <a:srgbClr val="00007f"/>
                </a:solidFill>
                <a:latin typeface="Times New Roman"/>
              </a:rPr>
              <a:t>ų</a:t>
            </a:r>
            <a:r>
              <a:rPr b="1" i="1" lang="en-GB" sz="4000" spc="-1" strike="noStrike">
                <a:solidFill>
                  <a:srgbClr val="00007f"/>
                </a:solidFill>
                <a:latin typeface="Times New Roman"/>
              </a:rPr>
              <a:t> kontrol</a:t>
            </a:r>
            <a:r>
              <a:rPr b="1" i="1" lang="lt-LT" sz="4000" spc="-1" strike="noStrike">
                <a:solidFill>
                  <a:srgbClr val="00007f"/>
                </a:solidFill>
                <a:latin typeface="Times New Roman"/>
              </a:rPr>
              <a:t>ė</a:t>
            </a:r>
            <a:r>
              <a:rPr b="1" i="1" lang="en-GB" sz="4000" spc="-1" strike="noStrike">
                <a:solidFill>
                  <a:srgbClr val="00007f"/>
                </a:solidFill>
                <a:latin typeface="Times New Roman"/>
              </a:rPr>
              <a:t>s ir audito priemoni</a:t>
            </a:r>
            <a:r>
              <a:rPr b="1" i="1" lang="lt-LT" sz="4000" spc="-1" strike="noStrike">
                <a:solidFill>
                  <a:srgbClr val="00007f"/>
                </a:solidFill>
                <a:latin typeface="Times New Roman"/>
              </a:rPr>
              <a:t>ų </a:t>
            </a:r>
            <a:r>
              <a:rPr b="1" i="1" lang="en-GB" sz="4000" spc="-1" strike="noStrike">
                <a:solidFill>
                  <a:srgbClr val="00007f"/>
                </a:solidFill>
                <a:latin typeface="Times New Roman"/>
              </a:rPr>
              <a:t>organizavimas</a:t>
            </a:r>
            <a:endParaRPr b="0" lang="en-US" sz="4000" spc="-1" strike="noStrike">
              <a:solidFill>
                <a:srgbClr val="000000"/>
              </a:solidFill>
              <a:latin typeface="Arial"/>
            </a:endParaRPr>
          </a:p>
        </p:txBody>
      </p:sp>
      <p:sp>
        <p:nvSpPr>
          <p:cNvPr id="88" name="PlaceHolder 2"/>
          <p:cNvSpPr>
            <a:spLocks noGrp="1"/>
          </p:cNvSpPr>
          <p:nvPr>
            <p:ph/>
          </p:nvPr>
        </p:nvSpPr>
        <p:spPr>
          <a:xfrm>
            <a:off x="539640" y="1800360"/>
            <a:ext cx="9072720" cy="451152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liekamo audito priežiūros ir peržiūros organizavimas, siekiant, kad kiekvienas auditas būtų atliktas vadovaujantis Valstybinio audito reikalavimais.</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oauditinės veiklos vykdymas užtikrinant atliktų auditų ataskaitose pateiktų rekomendacijų įgyvendinimą.</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evencinių priemonių vykdymas, siekiant, kad nepasikartotų nustatyti teisės aktų pažeidimai.</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yventojų pareiškimų ir skundų nagrinėjimas, vadovaujantis „Piliečių ir kitų asmenų aptarnavimo Savivaldybės kontrolieriaus tarnyboje tvarka“.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6300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Valstybės kontrole, Auditorių rūmais ir Vidaus auditorių asociacija tikslai</a:t>
            </a:r>
            <a:endParaRPr b="0" lang="en-US" sz="4000" spc="-1" strike="noStrike">
              <a:solidFill>
                <a:srgbClr val="000000"/>
              </a:solidFill>
              <a:latin typeface="Arial"/>
            </a:endParaRPr>
          </a:p>
        </p:txBody>
      </p:sp>
      <p:sp>
        <p:nvSpPr>
          <p:cNvPr id="90" name="PlaceHolder 2"/>
          <p:cNvSpPr>
            <a:spLocks noGrp="1"/>
          </p:cNvSpPr>
          <p:nvPr>
            <p:ph/>
          </p:nvPr>
        </p:nvSpPr>
        <p:spPr>
          <a:xfrm>
            <a:off x="457200" y="2209680"/>
            <a:ext cx="9072720" cy="44229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suderinti audito metodus ir standartus, pagal kuriuos atliekamas auditas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tampresnio bendradarbiavimo, pasitikėjimo ir naudojimosi vieni kitų darbu tarp auditorių, atliekančių auditą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tobulinti viešojo sektoriaus institucijų veiklos valdy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valstybei išmintingai valdyti ir naudoti turtą, lėšas ir kitus ištekliu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kad ES finansinė parama Lietuvoje būtų naudojama vadovaujantis skaidraus finansų valdymo principais.</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tarptautinėmis audito organizacijomis realizavimas</a:t>
            </a:r>
            <a:endParaRPr b="0" lang="en-US" sz="4000" spc="-1" strike="noStrike">
              <a:solidFill>
                <a:srgbClr val="000000"/>
              </a:solidFill>
              <a:latin typeface="Arial"/>
            </a:endParaRPr>
          </a:p>
        </p:txBody>
      </p:sp>
      <p:sp>
        <p:nvSpPr>
          <p:cNvPr id="92" name="PlaceHolder 2"/>
          <p:cNvSpPr>
            <a:spLocks noGrp="1"/>
          </p:cNvSpPr>
          <p:nvPr>
            <p:ph/>
          </p:nvPr>
        </p:nvSpPr>
        <p:spPr>
          <a:xfrm>
            <a:off x="457200" y="1752480"/>
            <a:ext cx="9072720" cy="5556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Kartu su kitų savivaldybių kontrolės ir audito institucijomis įsijungėme į Europos regionų išorės audito institucijų organizaciją (EURORAI). Stiprinant metodologinį savivaldybių auditų pagrindą ir siekiant geresnės auditų kokybės savivaldybių kontrolierių partneriu tapo Anglijos savivaldybių ir apskričių audito institucija (Audit Commission). Spalio mėnesį mūsų Tarnybos atstovas bendroje savivaldybių kontrolierių delegacijos sudėtyje Anglijos Audito komisijos kvietimu buvo išvykęs į Londone organizuotus mokymus. Apsilankymo metu buvo pristatytas Audito komisijos vaidmuo Anglijoje, audito organizavimo tvarka, supažindinta su savivaldybių audito metodikomis, tikslais, abipusiai pasidalinta darbo patirtimi ir aptartos tolimesnio bendradarbiavimo srity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darbuotojų išsilavinimas pagal mokslo sritis</a:t>
            </a:r>
            <a:endParaRPr b="0" lang="en-US" sz="4000" spc="-1" strike="noStrike">
              <a:solidFill>
                <a:srgbClr val="000000"/>
              </a:solidFill>
              <a:latin typeface="Arial"/>
            </a:endParaRPr>
          </a:p>
        </p:txBody>
      </p:sp>
      <p:pic>
        <p:nvPicPr>
          <p:cNvPr id="94" name="" descr=""/>
          <p:cNvPicPr/>
          <p:nvPr/>
        </p:nvPicPr>
        <p:blipFill>
          <a:blip r:embed="rId1"/>
          <a:stretch/>
        </p:blipFill>
        <p:spPr>
          <a:xfrm>
            <a:off x="1079640" y="1619280"/>
            <a:ext cx="8100720" cy="540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ės tarnautojų darbo stažas kontrolės ir audito srityje</a:t>
            </a:r>
            <a:endParaRPr b="0" lang="en-US" sz="4000" spc="-1" strike="noStrike">
              <a:solidFill>
                <a:srgbClr val="000000"/>
              </a:solidFill>
              <a:latin typeface="Arial"/>
            </a:endParaRPr>
          </a:p>
        </p:txBody>
      </p:sp>
      <p:pic>
        <p:nvPicPr>
          <p:cNvPr id="96" name="" descr=""/>
          <p:cNvPicPr/>
          <p:nvPr/>
        </p:nvPicPr>
        <p:blipFill>
          <a:blip r:embed="rId1"/>
          <a:stretch/>
        </p:blipFill>
        <p:spPr>
          <a:xfrm>
            <a:off x="720720" y="1619280"/>
            <a:ext cx="8640720" cy="5400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valstybės tarnautojų mokymasis ir kvalifikacijos kėlimas 2003-2006 metais</a:t>
            </a:r>
            <a:endParaRPr b="0" lang="en-US" sz="4000" spc="-1" strike="noStrike">
              <a:solidFill>
                <a:srgbClr val="000000"/>
              </a:solidFill>
              <a:latin typeface="Arial"/>
            </a:endParaRPr>
          </a:p>
        </p:txBody>
      </p:sp>
      <p:pic>
        <p:nvPicPr>
          <p:cNvPr id="98" name="" descr=""/>
          <p:cNvPicPr/>
          <p:nvPr/>
        </p:nvPicPr>
        <p:blipFill>
          <a:blip r:embed="rId1"/>
          <a:stretch/>
        </p:blipFill>
        <p:spPr>
          <a:xfrm>
            <a:off x="914400" y="1981080"/>
            <a:ext cx="8101080" cy="5220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valstyb</a:t>
            </a:r>
            <a:r>
              <a:rPr b="1" i="1" lang="lt-LT" sz="4000" spc="-1" strike="noStrike">
                <a:solidFill>
                  <a:srgbClr val="00007f"/>
                </a:solidFill>
                <a:latin typeface="Times New Roman"/>
              </a:rPr>
              <a:t>ė</a:t>
            </a:r>
            <a:r>
              <a:rPr b="1" i="1" lang="en-GB" sz="4000" spc="-1" strike="noStrike">
                <a:solidFill>
                  <a:srgbClr val="00007f"/>
                </a:solidFill>
                <a:latin typeface="Times New Roman"/>
              </a:rPr>
              <a:t>s tarnautoj</a:t>
            </a:r>
            <a:r>
              <a:rPr b="1" i="1" lang="lt-LT" sz="4000" spc="-1" strike="noStrike">
                <a:solidFill>
                  <a:srgbClr val="00007f"/>
                </a:solidFill>
                <a:latin typeface="Times New Roman"/>
              </a:rPr>
              <a:t>ų</a:t>
            </a:r>
            <a:r>
              <a:rPr b="1" i="1" lang="en-GB" sz="4000" spc="-1" strike="noStrike">
                <a:solidFill>
                  <a:srgbClr val="00007f"/>
                </a:solidFill>
                <a:latin typeface="Times New Roman"/>
              </a:rPr>
              <a:t> turimos kvalifikacin</a:t>
            </a:r>
            <a:r>
              <a:rPr b="1" i="1" lang="lt-LT" sz="4000" spc="-1" strike="noStrike">
                <a:solidFill>
                  <a:srgbClr val="00007f"/>
                </a:solidFill>
                <a:latin typeface="Times New Roman"/>
              </a:rPr>
              <a:t>ė</a:t>
            </a:r>
            <a:r>
              <a:rPr b="1" i="1" lang="en-GB" sz="4000" spc="-1" strike="noStrike">
                <a:solidFill>
                  <a:srgbClr val="00007f"/>
                </a:solidFill>
                <a:latin typeface="Times New Roman"/>
              </a:rPr>
              <a:t>s klas</a:t>
            </a:r>
            <a:r>
              <a:rPr b="1" i="1" lang="lt-LT" sz="4000" spc="-1" strike="noStrike">
                <a:solidFill>
                  <a:srgbClr val="00007f"/>
                </a:solidFill>
                <a:latin typeface="Times New Roman"/>
              </a:rPr>
              <a:t>ė</a:t>
            </a:r>
            <a:r>
              <a:rPr b="1" i="1" lang="en-GB" sz="4000" spc="-1" strike="noStrike">
                <a:solidFill>
                  <a:srgbClr val="00007f"/>
                </a:solidFill>
                <a:latin typeface="Times New Roman"/>
              </a:rPr>
              <a:t>s</a:t>
            </a:r>
            <a:endParaRPr b="0" lang="en-US" sz="4000" spc="-1" strike="noStrike">
              <a:solidFill>
                <a:srgbClr val="000000"/>
              </a:solidFill>
              <a:latin typeface="Arial"/>
            </a:endParaRPr>
          </a:p>
        </p:txBody>
      </p:sp>
      <p:pic>
        <p:nvPicPr>
          <p:cNvPr id="100" name="" descr=""/>
          <p:cNvPicPr/>
          <p:nvPr/>
        </p:nvPicPr>
        <p:blipFill>
          <a:blip r:embed="rId1"/>
          <a:stretch/>
        </p:blipFill>
        <p:spPr>
          <a:xfrm>
            <a:off x="1619280" y="1800360"/>
            <a:ext cx="7020000" cy="50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iai 2006 metų veiklos prioriteta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47" name="PlaceHolder 2"/>
          <p:cNvSpPr>
            <a:spLocks noGrp="1"/>
          </p:cNvSpPr>
          <p:nvPr>
            <p:ph/>
          </p:nvPr>
        </p:nvSpPr>
        <p:spPr>
          <a:xfrm>
            <a:off x="304920" y="1371600"/>
            <a:ext cx="9431280" cy="563256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Valstybinio audito reikalavimų ir Valstybės kontrolės metodikų teorinės bei praktinės studijo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Strateginio tyrimo ir audito planavimo įgyvend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ekamų auditų priežiūros ir peržiūros organizav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Poauditinės ir prevencinės veiklos vykdy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uditų ataskaitų ir išvadų teikimo bei auditų rezultatų viešinimo sistemos kūr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ktų auditų rezultatų poveikio vert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Tarnybos darbuotojų kvalifikacijos tobul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Bendradarbiavimo plėtojimas su Lietuvos ir tarptautinėmis audito institucijomi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Finansin</a:t>
            </a:r>
            <a:r>
              <a:rPr b="1" i="1" lang="lt-LT" sz="4000" spc="-1" strike="noStrike">
                <a:solidFill>
                  <a:srgbClr val="00007f"/>
                </a:solidFill>
                <a:latin typeface="Times New Roman"/>
              </a:rPr>
              <a:t>ė</a:t>
            </a:r>
            <a:r>
              <a:rPr b="1" i="1" lang="en-GB" sz="4000" spc="-1" strike="noStrike">
                <a:solidFill>
                  <a:srgbClr val="00007f"/>
                </a:solidFill>
                <a:latin typeface="Times New Roman"/>
              </a:rPr>
              <a:t> aplinka</a:t>
            </a:r>
            <a:endParaRPr b="0" lang="en-US" sz="4000" spc="-1" strike="noStrike">
              <a:solidFill>
                <a:srgbClr val="000000"/>
              </a:solidFill>
              <a:latin typeface="Arial"/>
            </a:endParaRPr>
          </a:p>
        </p:txBody>
      </p:sp>
      <p:sp>
        <p:nvSpPr>
          <p:cNvPr id="102" name="PlaceHolder 2"/>
          <p:cNvSpPr>
            <a:spLocks noGrp="1"/>
          </p:cNvSpPr>
          <p:nvPr>
            <p:ph/>
          </p:nvPr>
        </p:nvSpPr>
        <p:spPr>
          <a:xfrm>
            <a:off x="360360" y="1440000"/>
            <a:ext cx="9360000" cy="5340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Savivaldybės kontrolieriaus tarnyba yra Savivaldybės tarybos įsteigta biudžetinė įstaiga, pagal atskirą išlaidų sąmatą finansuojama iš Savivaldybės biudžeto. Tarnybos finansinį, ūkinį, materialinį aptarnavimą atlieka Savivaldybės administracija. Nustatyta tvarka bei terminais buvo sudaroma ir teikiama įstaigos finansinė atskaitomybė, įsigyjamas, naudojamas ir apskaitomas trumpalaikis bei ilgalaikis materialus turtas.</a:t>
            </a:r>
            <a:endParaRPr b="0" lang="en-US" sz="2800" spc="-1" strike="noStrike">
              <a:solidFill>
                <a:srgbClr val="000000"/>
              </a:solidFill>
              <a:latin typeface="Arial"/>
            </a:endParaRPr>
          </a:p>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Šiaulių miesto savivaldybės Tarybai 2006 m. sausio 26 d. sprendimu Nr. T-1 patvirtinus savivaldybės 2006 metų biudžetą ir asignavimus Kontrolieriaus tarnybai skirta – 620,2 tūkst. Lt. lėšų, t.y. 0,34 procento nuo 2006 metų visų biudžeto asignavimų.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26784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išlaidos nuo viso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biud</a:t>
            </a:r>
            <a:r>
              <a:rPr b="1" i="1" lang="lt-LT" sz="4000" spc="-1" strike="noStrike">
                <a:solidFill>
                  <a:srgbClr val="00007f"/>
                </a:solidFill>
                <a:latin typeface="Times New Roman"/>
              </a:rPr>
              <a:t>ž</a:t>
            </a:r>
            <a:r>
              <a:rPr b="1" i="1" lang="en-GB" sz="4000" spc="-1" strike="noStrike">
                <a:solidFill>
                  <a:srgbClr val="00007f"/>
                </a:solidFill>
                <a:latin typeface="Times New Roman"/>
              </a:rPr>
              <a:t>eto panaudot</a:t>
            </a:r>
            <a:r>
              <a:rPr b="1" i="1" lang="lt-LT" sz="4000" spc="-1" strike="noStrike">
                <a:solidFill>
                  <a:srgbClr val="00007f"/>
                </a:solidFill>
                <a:latin typeface="Times New Roman"/>
              </a:rPr>
              <a:t>ų</a:t>
            </a:r>
            <a:r>
              <a:rPr b="1" i="1" lang="en-GB" sz="4000" spc="-1" strike="noStrike">
                <a:solidFill>
                  <a:srgbClr val="00007f"/>
                </a:solidFill>
                <a:latin typeface="Times New Roman"/>
              </a:rPr>
              <a:t>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2003-2006 m.</a:t>
            </a:r>
            <a:endParaRPr b="0" lang="en-US" sz="4000" spc="-1" strike="noStrike">
              <a:solidFill>
                <a:srgbClr val="000000"/>
              </a:solidFill>
              <a:latin typeface="Arial"/>
            </a:endParaRPr>
          </a:p>
        </p:txBody>
      </p:sp>
      <p:pic>
        <p:nvPicPr>
          <p:cNvPr id="104" name="" descr=""/>
          <p:cNvPicPr/>
          <p:nvPr/>
        </p:nvPicPr>
        <p:blipFill>
          <a:blip r:embed="rId1"/>
          <a:stretch/>
        </p:blipFill>
        <p:spPr>
          <a:xfrm>
            <a:off x="1260360" y="1987560"/>
            <a:ext cx="7559640" cy="5213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2003-2006 m.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kasini</a:t>
            </a:r>
            <a:r>
              <a:rPr b="1" i="1" lang="lt-LT" sz="4000" spc="-1" strike="noStrike">
                <a:solidFill>
                  <a:srgbClr val="00007f"/>
                </a:solidFill>
                <a:latin typeface="Times New Roman"/>
              </a:rPr>
              <a:t>ų</a:t>
            </a:r>
            <a:r>
              <a:rPr b="1" i="1" lang="en-GB" sz="4000" spc="-1" strike="noStrike">
                <a:solidFill>
                  <a:srgbClr val="00007f"/>
                </a:solidFill>
                <a:latin typeface="Times New Roman"/>
              </a:rPr>
              <a:t> išlaid</a:t>
            </a:r>
            <a:r>
              <a:rPr b="1" i="1" lang="lt-LT" sz="4000" spc="-1" strike="noStrike">
                <a:solidFill>
                  <a:srgbClr val="00007f"/>
                </a:solidFill>
                <a:latin typeface="Times New Roman"/>
              </a:rPr>
              <a:t>ų</a:t>
            </a:r>
            <a:r>
              <a:rPr b="1" i="1" lang="en-GB" sz="4000" spc="-1" strike="noStrike">
                <a:solidFill>
                  <a:srgbClr val="00007f"/>
                </a:solidFill>
                <a:latin typeface="Times New Roman"/>
              </a:rPr>
              <a:t>) panaudojima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graphicFrame>
        <p:nvGraphicFramePr>
          <p:cNvPr id="106" name=""/>
          <p:cNvGraphicFramePr/>
          <p:nvPr/>
        </p:nvGraphicFramePr>
        <p:xfrm>
          <a:off x="1523880" y="1676520"/>
          <a:ext cx="7101000" cy="5592600"/>
        </p:xfrm>
        <a:graphic>
          <a:graphicData uri="http://schemas.openxmlformats.org/presentationml/2006/ole">
            <p:oleObj progId="Word.Document.12" r:id="rId1" spid="">
              <p:embed/>
              <p:pic>
                <p:nvPicPr>
                  <p:cNvPr id="107" name="" descr=""/>
                  <p:cNvPicPr/>
                  <p:nvPr/>
                </p:nvPicPr>
                <p:blipFill>
                  <a:blip r:embed="rId2"/>
                  <a:stretch/>
                </p:blipFill>
                <p:spPr>
                  <a:xfrm>
                    <a:off x="1523880" y="1676520"/>
                    <a:ext cx="7101000" cy="55926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80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Veiklos </a:t>
            </a:r>
            <a:r>
              <a:rPr b="1" i="1" lang="lt-LT" sz="4000" spc="-1" strike="noStrike">
                <a:solidFill>
                  <a:srgbClr val="00007f"/>
                </a:solidFill>
                <a:latin typeface="Times New Roman"/>
              </a:rPr>
              <a:t>į</a:t>
            </a:r>
            <a:r>
              <a:rPr b="1" i="1" lang="en-GB" sz="4000" spc="-1" strike="noStrike">
                <a:solidFill>
                  <a:srgbClr val="00007f"/>
                </a:solidFill>
                <a:latin typeface="Times New Roman"/>
              </a:rPr>
              <a:t>taka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administravimo subjekt</a:t>
            </a:r>
            <a:r>
              <a:rPr b="1" i="1" lang="lt-LT" sz="4000" spc="-1" strike="noStrike">
                <a:solidFill>
                  <a:srgbClr val="00007f"/>
                </a:solidFill>
                <a:latin typeface="Times New Roman"/>
              </a:rPr>
              <a:t>ų</a:t>
            </a:r>
            <a:r>
              <a:rPr b="1" i="1" lang="en-GB" sz="4000" spc="-1" strike="noStrike">
                <a:solidFill>
                  <a:srgbClr val="00007f"/>
                </a:solidFill>
                <a:latin typeface="Times New Roman"/>
              </a:rPr>
              <a:t> funkcij</a:t>
            </a:r>
            <a:r>
              <a:rPr b="1" i="1" lang="lt-LT" sz="4000" spc="-1" strike="noStrike">
                <a:solidFill>
                  <a:srgbClr val="00007f"/>
                </a:solidFill>
                <a:latin typeface="Times New Roman"/>
              </a:rPr>
              <a:t>ų</a:t>
            </a:r>
            <a:r>
              <a:rPr b="1" i="1" lang="en-GB" sz="4000" spc="-1" strike="noStrike">
                <a:solidFill>
                  <a:srgbClr val="00007f"/>
                </a:solidFill>
                <a:latin typeface="Times New Roman"/>
              </a:rPr>
              <a:t> veiklos tobulinimu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109" name="PlaceHolder 2"/>
          <p:cNvSpPr>
            <a:spLocks noGrp="1"/>
          </p:cNvSpPr>
          <p:nvPr>
            <p:ph/>
          </p:nvPr>
        </p:nvSpPr>
        <p:spPr>
          <a:xfrm>
            <a:off x="647640" y="1800000"/>
            <a:ext cx="9072720" cy="545148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erėjo audito reikšmės, skatinant subjektų vidaus veiklos procesų tobulinimą, suprat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Buvo įgyvendinama efektyvesnė buhalterinės apskaitos ir atskaitomybės sistema, greičiau ir veiksmingiau reaguojant į šios sistemos organizavimo reikalavimų pasikeit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udituotose subjektuose kuriama veiksminga vidaus kontrolės ir visų pirma finansinės kontrolės sistema atsižvelgiant į naujausių teisės norminių aktų reikalav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Rengiant savivaldybės biudžetą įgyvendinta didžioji dalis rekomendacijų, numatytų Vyriausybės patvirtintoje Strateginio planavimo metodikoje.</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didėjo savivaldybės administruojamų biudžetinių įstaigų ir Savivaldybės administracijos padalinių administruojamų biudžeto pajamų surinkimas, pagerėjo šios veiklos administrav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pateiktas rekomendacijas, paspartėjo savivaldybės nuosavybės teise valdomo turto inventorizavimas ir teisinis registravimas (B kategorijos gatvės, gyvenamosios patalpos ir kt.).</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00007f"/>
                </a:solidFill>
                <a:latin typeface="Times New Roman"/>
              </a:rPr>
              <a:t>A</a:t>
            </a:r>
            <a:r>
              <a:rPr b="1" i="1" lang="lt-LT" sz="5400" spc="-1" strike="noStrike">
                <a:solidFill>
                  <a:srgbClr val="00007f"/>
                </a:solidFill>
                <a:latin typeface="Times New Roman"/>
              </a:rPr>
              <a:t>č</a:t>
            </a:r>
            <a:r>
              <a:rPr b="1" i="1" lang="en-GB" sz="5400" spc="-1" strike="noStrike">
                <a:solidFill>
                  <a:srgbClr val="00007f"/>
                </a:solidFill>
                <a:latin typeface="Times New Roman"/>
              </a:rPr>
              <a:t>i</a:t>
            </a:r>
            <a:r>
              <a:rPr b="1" i="1" lang="lt-LT" sz="5400" spc="-1" strike="noStrike">
                <a:solidFill>
                  <a:srgbClr val="00007f"/>
                </a:solidFill>
                <a:latin typeface="Times New Roman"/>
              </a:rPr>
              <a:t>ū</a:t>
            </a:r>
            <a:r>
              <a:rPr b="1" i="1" lang="en-GB" sz="5400" spc="-1" strike="noStrike">
                <a:solidFill>
                  <a:srgbClr val="00007f"/>
                </a:solidFill>
                <a:latin typeface="Times New Roman"/>
              </a:rPr>
              <a:t> u</a:t>
            </a:r>
            <a:r>
              <a:rPr b="1" i="1" lang="lt-LT" sz="5400" spc="-1" strike="noStrike">
                <a:solidFill>
                  <a:srgbClr val="00007f"/>
                </a:solidFill>
                <a:latin typeface="Times New Roman"/>
              </a:rPr>
              <a:t>ž</a:t>
            </a:r>
            <a:r>
              <a:rPr b="1" i="1" lang="en-GB" sz="5400" spc="-1" strike="noStrike">
                <a:solidFill>
                  <a:srgbClr val="00007f"/>
                </a:solidFill>
                <a:latin typeface="Times New Roman"/>
              </a:rPr>
              <a:t> d</a:t>
            </a:r>
            <a:r>
              <a:rPr b="1" i="1" lang="lt-LT" sz="5400" spc="-1" strike="noStrike">
                <a:solidFill>
                  <a:srgbClr val="00007f"/>
                </a:solidFill>
                <a:latin typeface="Times New Roman"/>
              </a:rPr>
              <a:t>ė</a:t>
            </a:r>
            <a:r>
              <a:rPr b="1" i="1" lang="en-GB" sz="5400" spc="-1" strike="noStrike">
                <a:solidFill>
                  <a:srgbClr val="00007f"/>
                </a:solidFill>
                <a:latin typeface="Times New Roman"/>
              </a:rPr>
              <a:t>mes</a:t>
            </a:r>
            <a:r>
              <a:rPr b="1" i="1" lang="lt-LT" sz="5400" spc="-1" strike="noStrike">
                <a:solidFill>
                  <a:srgbClr val="00007f"/>
                </a:solidFill>
                <a:latin typeface="Times New Roman"/>
              </a:rPr>
              <a:t>į</a:t>
            </a:r>
            <a:r>
              <a:rPr b="1" i="1" lang="en-GB" sz="5400" spc="-1" strike="noStrike">
                <a:solidFill>
                  <a:srgbClr val="00007f"/>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planavimo etapai</a:t>
            </a:r>
            <a:endParaRPr b="0" lang="en-US" sz="4000" spc="-1" strike="noStrike">
              <a:solidFill>
                <a:srgbClr val="000000"/>
              </a:solidFill>
              <a:latin typeface="Arial"/>
            </a:endParaRPr>
          </a:p>
        </p:txBody>
      </p:sp>
      <p:sp>
        <p:nvSpPr>
          <p:cNvPr id="49" name="PlaceHolder 2"/>
          <p:cNvSpPr>
            <a:spLocks noGrp="1"/>
          </p:cNvSpPr>
          <p:nvPr>
            <p:ph/>
          </p:nvPr>
        </p:nvSpPr>
        <p:spPr>
          <a:xfrm>
            <a:off x="457200" y="1447560"/>
            <a:ext cx="9072720" cy="5323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Peržiūrėti ir įvertinti teisės aktai ir jų pakeitimai, reglamentuojantys Tarnybai priskirtus uždavinius bei funkcija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urinkta visa reikalinga informacija apie Savivaldybės biudžetų programų asignavimų valdytojus ir kontroliuojamas įmone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Įvertinti tarnybos specialistų pagal jiems priskirtas savivaldybės veiklos sritis atlikti strateginio tyrimo rezultatai.</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Apskaičiuoti savivaldybės kontrolieriaus tarnybos personalo ištekliai metams (darbo dienomi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iekiant nedubliuoti darbo, buvo susipažinta su Savivaldybės administracijos Vidaus audito skyriaus metinio plano projektu.</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plano projektas 2006 m. sausio 12 d. apsvarstytas Kontrolės komiteto posėdyje ir patvirtintas savivaldybės kontrolieriaus įsakymu 2006 m. vasario 7 dieną.</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4014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Strateginio tyrimo organizavimas</a:t>
            </a:r>
            <a:endParaRPr b="0" lang="en-US" sz="4000" spc="-1" strike="noStrike">
              <a:solidFill>
                <a:srgbClr val="000000"/>
              </a:solidFill>
              <a:latin typeface="Arial"/>
            </a:endParaRPr>
          </a:p>
        </p:txBody>
      </p:sp>
      <p:pic>
        <p:nvPicPr>
          <p:cNvPr id="51" name="" descr=""/>
          <p:cNvPicPr/>
          <p:nvPr/>
        </p:nvPicPr>
        <p:blipFill>
          <a:blip r:embed="rId1"/>
          <a:stretch/>
        </p:blipFill>
        <p:spPr>
          <a:xfrm>
            <a:off x="533520" y="1387440"/>
            <a:ext cx="9067680" cy="562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specialistų darbo laiko struktūra pagal veiklos sriti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pic>
        <p:nvPicPr>
          <p:cNvPr id="53" name="" descr=""/>
          <p:cNvPicPr/>
          <p:nvPr/>
        </p:nvPicPr>
        <p:blipFill>
          <a:blip r:embed="rId1"/>
          <a:stretch/>
        </p:blipFill>
        <p:spPr>
          <a:xfrm>
            <a:off x="685800" y="1676520"/>
            <a:ext cx="8839080" cy="5333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1659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inio audito atlikimo reikalavimai</a:t>
            </a:r>
            <a:endParaRPr b="0" lang="en-US" sz="4000" spc="-1" strike="noStrike">
              <a:solidFill>
                <a:srgbClr val="000000"/>
              </a:solidFill>
              <a:latin typeface="Arial"/>
            </a:endParaRPr>
          </a:p>
        </p:txBody>
      </p:sp>
      <p:sp>
        <p:nvSpPr>
          <p:cNvPr id="55" name="PlaceHolder 2"/>
          <p:cNvSpPr>
            <a:spLocks noGrp="1"/>
          </p:cNvSpPr>
          <p:nvPr>
            <p:ph/>
          </p:nvPr>
        </p:nvSpPr>
        <p:spPr>
          <a:xfrm>
            <a:off x="533160" y="1219320"/>
            <a:ext cx="9072360" cy="555624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adėjus taikyti Tarptautinių audito standartų, Valstybės kontrolės parengtų ,,Įstaigų finansinio audito vadovo“ ir ,,Veiklos audito vadovo“ reikalavimus pasikeitė audito kokybė. Tikslas tapo ne surasti ir nubausti, bet surasti ir padėti ištaisyti neatitikimus ir pažeidimus. Auditas buvo atliekamas einamaisiais metais siekiant paveikti, kad būtų sustiprinta vidaus kontrolė, padidintas veiklos efektyvumas, išvengta klaidų ir pažeidimų naudojant biudžeto asignavimus bei turtą.</a:t>
            </a:r>
            <a:endParaRPr b="0" lang="en-US" sz="2800" spc="-1" strike="noStrike">
              <a:solidFill>
                <a:srgbClr val="000000"/>
              </a:solidFill>
              <a:latin typeface="Arial"/>
            </a:endParaRPr>
          </a:p>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alutinis audito rezultatas – įvertinta audituojamo subjekto sudaryta finansinė atskaitomybė ir informuoti audito ataskaitų naudotojai, ar ji parodė, kas iš tikrųjų įvyko tuo laikotarpiu, ar tai, kas įvyko yra leistina, teisėta ir tinkamai apskaičiuota bei pateikta.</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80229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3-2006 metų auditai, </a:t>
            </a:r>
            <a:br>
              <a:rPr sz="4000"/>
            </a:br>
            <a:r>
              <a:rPr b="1" i="1" lang="lt-LT" sz="4000" spc="-1" strike="noStrike">
                <a:solidFill>
                  <a:srgbClr val="00007f"/>
                </a:solidFill>
                <a:latin typeface="Times New Roman"/>
              </a:rPr>
              <a:t>pagal pavedimo datas</a:t>
            </a:r>
            <a:endParaRPr b="0" lang="en-US" sz="4000" spc="-1" strike="noStrike">
              <a:solidFill>
                <a:srgbClr val="000000"/>
              </a:solidFill>
              <a:latin typeface="Arial"/>
            </a:endParaRPr>
          </a:p>
        </p:txBody>
      </p:sp>
      <p:pic>
        <p:nvPicPr>
          <p:cNvPr id="57" name="" descr=""/>
          <p:cNvPicPr/>
          <p:nvPr/>
        </p:nvPicPr>
        <p:blipFill>
          <a:blip r:embed="rId1"/>
          <a:stretch/>
        </p:blipFill>
        <p:spPr>
          <a:xfrm>
            <a:off x="1143000" y="1676520"/>
            <a:ext cx="7920000" cy="521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444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savivaldybės biudžeto asignavimų valdytojų finansinės</a:t>
            </a:r>
            <a:br>
              <a:rPr sz="4000"/>
            </a:br>
            <a:r>
              <a:rPr b="1" i="1" lang="lt-LT" sz="4000" spc="-1" strike="noStrike">
                <a:solidFill>
                  <a:srgbClr val="00007f"/>
                </a:solidFill>
                <a:latin typeface="Times New Roman"/>
              </a:rPr>
              <a:t>atskaitomybės vertinimas</a:t>
            </a:r>
            <a:endParaRPr b="0" lang="en-US" sz="4000" spc="-1" strike="noStrike">
              <a:solidFill>
                <a:srgbClr val="000000"/>
              </a:solidFill>
              <a:latin typeface="Arial"/>
            </a:endParaRPr>
          </a:p>
        </p:txBody>
      </p:sp>
      <p:pic>
        <p:nvPicPr>
          <p:cNvPr id="59" name="" descr=""/>
          <p:cNvPicPr/>
          <p:nvPr/>
        </p:nvPicPr>
        <p:blipFill>
          <a:blip r:embed="rId1"/>
          <a:stretch/>
        </p:blipFill>
        <p:spPr>
          <a:xfrm>
            <a:off x="609480" y="2438280"/>
            <a:ext cx="906804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1T09:02:12Z</dcterms:modified>
  <cp:revision>85</cp:revision>
  <dc:subject/>
  <dc:title>ŠIAULIŲ MIESTO SAVIVALDYBĖS KONTROLIERIAUS TARNYBA</dc:title>
</cp:coreProperties>
</file>